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94D-5AB6-40AA-8566-9747547C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D00-4E76-4ED5-95A6-594D274A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163-2E91-4E83-A4E2-733F08E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23D-4CAE-44A6-9A48-51947AE5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0602-5C0C-4391-B010-8A25FBA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AD6B-DE9C-48BF-99BB-3D00DCD3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AE26-4B45-48DC-BDE6-8FD2C99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EC5-ABE9-4E7D-955D-7B74750A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A39-0090-41B8-9CE2-48654CF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C6C8-08CF-46B4-8B9D-7CED9661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C70F-6587-41DD-B506-E6E21CC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41F-2EBB-4EAF-8040-473EB4E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034-4931-42FD-9DC5-28B1B51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922-881F-40C0-980B-6A50141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B7E2-C57C-4DE5-A36B-06483C2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D498-4CAD-400F-A4E5-C70AF63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42DA-BC7D-40E7-88AE-DD0AC04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30A-5268-4EC3-BEAE-CB14DDA4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151-C6BE-415B-B490-08B86361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843-3EC3-414E-A9C1-9EC9CBE2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D1D-9B42-48CC-A416-0163AD8F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C0A-297D-455A-9148-B970329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B1A-764B-4ED1-A8FB-AB3F379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292-4EFC-4D62-92A6-2E07B26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30F-790F-4A7A-8C0B-418E6FACD1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B97C-6E67-4FFD-8F6F-B02A8A05D5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Pelvis and Contents</a:t>
            </a:r>
            <a:endParaRPr b="1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46440"/>
            <a:ext cx="914400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Reproductive Organ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Bones of the Pelvis 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9520" y="685800"/>
            <a:ext cx="4953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vic / hip girdl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es the lower limbs to spine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the viscera of the pelvi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s the weight of the upper body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ed hip bones (coxal bone)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 with each other anteriorly and with the sacrum posteriorly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y pelvis: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coxae, sacrum and coccyx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95280" y="6248520"/>
            <a:ext cx="60962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4e4e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ab work to learn bony landmarks of pelvi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7" name="Picture 11" descr="showimage"/>
          <p:cNvPicPr/>
          <p:nvPr/>
        </p:nvPicPr>
        <p:blipFill>
          <a:blip r:embed="rId1"/>
          <a:stretch/>
        </p:blipFill>
        <p:spPr>
          <a:xfrm>
            <a:off x="76320" y="1752480"/>
            <a:ext cx="41907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Os Coxa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elvic bone during childhood: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um – NOT “ILEUM”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hium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oinf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rior region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Picture 12" descr="showimage"/>
          <p:cNvPicPr/>
          <p:nvPr/>
        </p:nvPicPr>
        <p:blipFill>
          <a:blip r:embed="rId1"/>
          <a:stretch/>
        </p:blipFill>
        <p:spPr>
          <a:xfrm>
            <a:off x="304920" y="1143000"/>
            <a:ext cx="373356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16" descr="showimage"/>
          <p:cNvPicPr/>
          <p:nvPr/>
        </p:nvPicPr>
        <p:blipFill>
          <a:blip r:embed="rId2"/>
          <a:stretch/>
        </p:blipFill>
        <p:spPr>
          <a:xfrm>
            <a:off x="5181480" y="4495680"/>
            <a:ext cx="2853000" cy="21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18" descr="showimage"/>
          <p:cNvPicPr/>
          <p:nvPr/>
        </p:nvPicPr>
        <p:blipFill>
          <a:blip r:embed="rId3"/>
          <a:stretch/>
        </p:blipFill>
        <p:spPr>
          <a:xfrm>
            <a:off x="609480" y="3809880"/>
            <a:ext cx="3353040" cy="256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True and False Pelv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67080" y="990720"/>
            <a:ext cx="4686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d by the pelvic brim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to the pelvic brim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 blade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s abdominal organ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ment for muscles and ligaments to body wal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rior to the pelvic brim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contains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colon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der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/ovaries (females)</a:t>
            </a: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9" descr="showimage"/>
          <p:cNvPicPr/>
          <p:nvPr/>
        </p:nvPicPr>
        <p:blipFill>
          <a:blip r:embed="rId1"/>
          <a:stretch/>
        </p:blipFill>
        <p:spPr>
          <a:xfrm>
            <a:off x="76320" y="1752480"/>
            <a:ext cx="41907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vic Diaphragm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ator ani and coccygeus muscle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pelvic organs 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ls inferior opening of bony pelvis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ts to help release feces during defecation 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7" name="Picture 9" descr="showimage"/>
          <p:cNvPicPr/>
          <p:nvPr/>
        </p:nvPicPr>
        <p:blipFill>
          <a:blip r:embed="rId1"/>
          <a:stretch/>
        </p:blipFill>
        <p:spPr>
          <a:xfrm>
            <a:off x="380880" y="1371600"/>
            <a:ext cx="4253040" cy="41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Sexual Dimorphism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759680" y="1219320"/>
            <a:ext cx="94104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544440" y="1255680"/>
            <a:ext cx="67464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1" name="Picture 10" descr="showimage"/>
          <p:cNvPicPr/>
          <p:nvPr/>
        </p:nvPicPr>
        <p:blipFill>
          <a:blip r:embed="rId1"/>
          <a:stretch/>
        </p:blipFill>
        <p:spPr>
          <a:xfrm>
            <a:off x="380880" y="2162160"/>
            <a:ext cx="8610840" cy="367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2:38:34Z</dcterms:created>
  <dc:creator>Heather Townsend</dc:creator>
  <dc:description/>
  <cp:keywords/>
  <dc:language>en-US</dc:language>
  <cp:lastModifiedBy> </cp:lastModifiedBy>
  <dcterms:modified xsi:type="dcterms:W3CDTF">2010-08-03T18:20:18Z</dcterms:modified>
  <cp:revision>83</cp:revision>
  <dc:subject/>
  <dc:title>Lecture 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